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98880" y="-36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6240" y="690120"/>
            <a:ext cx="47052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2320" y="4449600"/>
            <a:ext cx="515448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22880"/>
            <a:ext cx="30765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98880" y="882288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8FA545-1DB7-42F6-8628-1F4010AA5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6240" y="690480"/>
            <a:ext cx="4705200" cy="3529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2320" y="4449600"/>
            <a:ext cx="515448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is to match slides for rest of kit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37148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Vertex Programs for Fixed Function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00200" y="563868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ik Lindhol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ikl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kinning: Position/Normal Blen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UL Rh,R0.x,Rh;     /* position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UL Rn,R0.x,Rn;     /* normal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AD Rh,R0.y,R3,Rh;  /* if 2+ matrix skinning */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AD Rn,R0.y,R2,Rn;  /* if 2+ matrix skinning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AD Rh,R0.z,R5,Rh;  /* if 3+ matrix skinning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AD Rn,R0.z,R4,Rn;  /* if 3+ matrix skinning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AD Rh,R0.w,R7,Rh;  /* if 4  matrix skinning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AD Rn,R0.w,R6,Rn;  /* if 4  matrix skinning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kinning: Position Outpu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3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HPOS].x,Rh,c[PROJECTION_MATRIX_X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HPOS].y,Rh,c[PROJECTION_MATRIX_Y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HPOS].z,Rh,c[PROJECTION_MATRIX_Z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HPOS].w,Rh,c[PROJECTION_MATRIX_W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osition Output (No Skinning)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HPOS].x,v[OPOS],c[COMPOSITE_MATRIX_X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HPOS].y,v[OPOS],c[COMPOSITE_MATRIX_Y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HPOS].z,v[OPOS],c[COMPOSITE_MATRIX_Z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HPOS].w,v[OPOS],c[COMPOSITE_MATRIX_W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ormalize Eye Norm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3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n.w,Rn,R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RSQ Rn.w,Rn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UL Rn,Rn,Rn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on-homogeneous Eye Position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3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RCP R0.w,Rh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UL Re,Rh,R0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-&gt;Eye Vecto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ADD R0,-Re,c[EYE_POSITION];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0.w,R0,R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RSQ R1.w,R0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UL Rv,R0,R1.w;        /* direction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ST Rf,R0.w,R1.w;      /* distance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Fog Outpu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radial fog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o[FOGC].x,Rf.y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z linear fog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o[FOGC].x,-Re.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oint Paramet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3 R0.w,Rf,c[POINT_PARAMETER_ATTENUATION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RSQ R0.w,R0.w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UL R0.w,R0.w,c[POINT_PARAMETER].x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IN R0.w,R0.w,c[POINT_PARAMETER].y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MAX o[PSIZ].x,R0.w,c[POINT_PARAMETER].z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Lighting Initialization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diffuse only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c,c[GLOBAL_ILLUMINATION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iffuse and specular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c,c[GLOBAL_ILLUMINATION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x,c[CONSTANT0].y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Infinite Light/Infinite View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0.x,Rn,c[LIGHT_POSITION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0.y,Rn,c[LIGHT_HALF_ANGLE_VECTOR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0.w,c[LIGHT_SPECULAR]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IT R0,R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D Rc.xyz,R0.x,c[LIGHT_AMBIENT],R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D Rc.xyz,R0.y,c[LIGHT_DIFFUSE],R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D Rx.xyz,R0.z,c[LIGHT_SPECULAR],Rx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use Rc above for single color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Fixed Function Emulation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vertex shader instructions that can be used to emulate the standard fixed function transform and lighting pipeli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is is a work in progress. A final implementation will fol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potlight/Local Viewer 1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light direction/distance vectors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ADD R0,-Re,c[LIGHT_POSITION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0.w,R0,R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RSQ R1.w,R0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UL Rl,R0,R1.w;         /* direction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ST Rd,R0.w,R1.w;       /* distance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potlight/Local Viewer 2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half-angle vector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ADD RH,Rv,R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H.w,RH,RH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RSQ RH.w,RH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UL RH,RH,RH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potlight/Local Viewer 3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distance attenuation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d.w,Rd,c[LIGHT_ATTENUATION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RCP Rd.w,Rd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spotlight cone attenuation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0.y,Rl,-c[LIGHT_SPOT_DIRECTION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ADD R0.x,R0.y,-c[LIGHT_SPOT_DIRECTION]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0.w,c[LIGHT_ATTENUATION]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IT R0,R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UL Rd,Rd.w,R0.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potlight/Local Viewer 4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0.x,Rn,R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0.y,Rn,RH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0.w,c[LIGHT_SPECULAR]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LIT R0,R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UL R0,R0,Rd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D Rc.xyz,R0.x,c[LIGHT_AMBIENT],R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D Rc.xyz,R0.y,c[LIGHT_DIFFUSE],R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D Rx.xyz,R0.z,c[LIGHT_SPECULAR],Rx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use Rc above for single color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Lighting Outpu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diffuse only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o[COL0],R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diffuse and specular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o[COL0],R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o[COL1],Rx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Global Texture Generation State 1/2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3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reflection vector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UL R0,Rn,c[EYE_POSITION]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r.w,Rn,R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D Rr,Rr.w,R0,-R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Global Texture Generation State 2/2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sphere map vector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ADD R0,c[CONSTANT0].yyzy,Rr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3 R0.w,R0,R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RSQ R0.w,R0.w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UL R0.xyz,R0,c[CONSTANT0].wwyy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D Rs,R0.w,R0,c[CONSTANT0].wwyy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er Texture 1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3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initialize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0,v[TEX0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er Texture 2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/* object space plane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x,v[OPOS],c[TEXTURE_OBJECT_PLANE_X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y,v[OPOS],c[TEXTURE_OBJECT_PLANE_Y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z,v[OPOS],c[TEXTURE_OBJECT_PLANE_Z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w,v[OPOS],c[TEXTURE_OBJECT_PLANE_W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/* eye space plane *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x,Rh,c[TEXTURE_EYE_PLANE_X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y,Rh,c[TEXTURE_EYE_PLANE_Y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z,Rh,c[TEXTURE_EYE_PLANE_Z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w,Rh,c[TEXTURE_EYE_PLANE_W]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er Texture 3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sphere map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0.xy,R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normal vector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0.xyz,R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reflection vector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OV R0.xyz,Rr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Fixed Function Emulation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ter register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ter templ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ter constant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t code of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 (no re-arrangement requir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al performance tu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er Texture 4/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texture matrix and output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TEX0].x,R0,c[TEXTURE_MATRIX_X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TEX0].y,R0,c[TEXTURE_MATRIX_Y]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TEX0].z,R0,c[TEXTURE_MATRIX_Z]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P4 o[TEX0].w,R0,c[TEXTURE_MATRIX_W]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 required by the template code is organized into blocks by function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 free to reorganize as you see 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have 96 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 Map 0-11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/* normal matrices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0_MATRIX_X]  /* inverse transpose Modelview Matrix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0_MATRIX_Y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0_MATRIX_Z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1_MATRIX_X]  /* inverse transpose Modelview1 Matrix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1_MATRIX_Y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1_MATRIX_Z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2_MATRIX_X]  /* inverse transpose Modelview2 Matrix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2_MATRIX_Y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2_MATRIX_Z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3_MATRIX_X]  /* inverse transpose Modelview3 Matrix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3_MATRIX_Y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NORMAL3_MATRIX_Z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 Map 12-27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/* position matrices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0_MATRIX_X]               /* Modelview Matrix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0_MATRIX_Y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0_MATRIX_Z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0_MATRIX_W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1_MATRIX_X]               /* Modelview1 Matrix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1_MATRIX_Y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1_MATRIX_Z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1_MATRIX_W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2_MATRIX_X]               /* Modelview2 Matrix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2_MATRIX_Y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2_MATRIX_Z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2_MATRIX_W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3_MATRIX_X]               /* Modelview3 Matrix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3_MATRIX_Y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3_MATRIX_Z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MODELVIEW3_MATRIX_W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 Map 28-35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8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PROJECTION_MATRIX_X] /* Projection Matrix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PROJECTION_MATRIX_Y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PROJECTION_MATRIX_Z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PROJECTION_MATRIX_W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COMPOSITE_MATRIX_X] /* Projection*Modelview Matrix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COMPOSITE_MATRIX_Y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COMPOSITE_MATRIX_Z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COMPOSITE_MATRIX_W]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 Map 36-39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MATRIX_X] /* Texture Matrix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MATRIX_Y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MATRIX_Z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MATRIX_W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 Map 40-47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4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/* light state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GLOBAL_ILLUMINATION]     /* R,G,B,A (emission+global ambient)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LIGHT_POSITION]          /* X,Y,Z,NA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LIGHT_HALF_ANGLE_VECTOR] /* X,Y,Z,NA for infinite light+viewer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LIGHT_AMBIENT]           /* R,G,B,NA (light*material)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LIGHT_DIFFUSE]           /* R,G,B,NA (light*material)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LIGHT_SPECULAR]          /* R,G,B,SPECULAR POWER (light*material)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LIGHT_ATTENUATION]       /* K0,K1,K2,SPOT POWER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Mincho"/>
              </a:rPr>
              <a:t>c[LIGHT_SPOT_DIRECTION]    /* X,Y,Z,cos(CUTOFF) 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 Map 48-49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/* point parameters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POINT_PARAMETER]     /* POINT_SIZE,MAX_CLAMP,MIN_CLAMP,NA *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[POINT_PARAMETER_ATTENUATION] /* K0,K1,K2,NA */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 Map 50-57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8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/* texgen plan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OBJECT_PLANE_X]            /* X,Y,Z,W */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OBJECT_PLANE_Y]            /* X,Y,Z,W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OBJECT_PLANE_Z]            /* X,Y,Z,W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OBJECT_PLANE_W]            /* X,Y,Z,W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EYE_PLANE_X]               /* X,Y,Z,W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EYE_PLANE_Y]               /* X,Y,Z,W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EYE_PLANE_Z]               /* X,Y,Z,W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[TEXTURE_EYE_PLANE_W]               /* X,Y,Z,W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 Map 58-59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3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/* miscellaneous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c[EYE_POSITION]  /*  0.0,0.0,0.0,2.0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c[CONSTANT0]     /* -1.0,0.0,1.0,0.5 *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Regist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mmon data stored at top of registe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 free to reorganize as you see 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have 12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stant Map 60-95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L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ex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Matr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Master register ma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0            scra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1            scra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2            scra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3 (Rd)       scratch/light ve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4 (Rr,Rf,Rl) scratch/reflection vector/eye vector/light 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5 (Rs,Rv)    scratch/sphere vector/eye ve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6 (Rx)       scratch/specular col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7 (Rc)       scratch/diffuse col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8 (RH)       scratch/half angle ve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9 (Rh)    eye position homogeneo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10(Re)    eye position non-homogeneo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R11(Rn)    eye n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rogram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is organized into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Transform/skin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F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Point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Ligh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Tex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icate blocks for more lights or tex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ormal Transform Eye Spac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/* eye space normal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n.x,v[NRML],c[NORMAL0_MATRIX_X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n.y,v[NRML],c[NORMAL0_MATRIX_Y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n.z,v[NRML],c[NORMAL0_MATRIX_Z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/* eye space normal 2 matrix skinning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2.x,v[NRML],c[NORMAL1_MATRIX_X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2.y,v[NRML],c[NORMAL1_MATRIX_Y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2.z,v[NRML],c[NORMAL1_MATRIX_Z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/* eye space normal 3 matrix skinning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4.x,v[NRML],c[NORMAL2_MATRIX_X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4.y,v[NRML],c[NORMAL2_MATRIX_Y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4.z,v[NRML],c[NORMAL2_MATRIX_Z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/* eye space normal 4 matrix skinning *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6.x,v[NRML],c[NORMAL3_MATRIX_X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6.y,v[NRML],c[NORMAL3_MATRIX_Y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DP3 R6.z,v[NRML],c[NORMAL3_MATRIX_Z]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osition Transform Eye Spac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/* eye space position homogeneous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h.x,v[OPOS],c[MODELVIEW0_MATRIX_X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h.y,v[OPOS],c[MODELVIEW0_MATRIX_Y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h.z,v[OPOS],c[MODELVIEW0_MATRIX_Z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h.w,v[OPOS],c[MODELVIEW0_MATRIX_W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/* eye space position homogeneous 2 matrix skinning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3.x,v[OPOS],c[MODELVIEW1_MATRIX_X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3.y,v[OPOS],c[MODELVIEW1_MATRIX_Y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3.z,v[OPOS],c[MODELVIEW1_MATRIX_Z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3.w,v[OPOS],c[MODELVIEW1_MATRIX_W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/* eye space position homogeneous 3 matrix skinning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5.x,v[OPOS],c[MODELVIEW2_MATRIX_X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5.y,v[OPOS],c[MODELVIEW2_MATRIX_Y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5.z,v[OPOS],c[MODELVIEW2_MATRIX_Z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5.w,v[OPOS],c[MODELVIEW2_MATRIX_W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/* eye space position homogeneous 4 matrix skinning */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7.x,v[OPOS],c[MODELVIEW3_MATRIX_X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7.y,v[OPOS],c[MODELVIEW3_MATRIX_Y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7.z,v[OPOS],c[MODELVIEW3_MATRIX_Z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DP4 R7.w,v[OPOS],c[MODELVIEW3_MATRIX_W]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kinning: Blend Weigh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OV R0,v[WGHT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OV R0.w,c[CONSTANT0].z;       /* if need new weigh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y,R0,c[CONSTANT0].xyyz; /* new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  <a:ea typeface="MS Mincho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weigh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z,R0,c[CONSTANT0].xxyz; /* or new 3rd weigh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DP4 R0.w,R0,c[CONSTANT0].xxxz; /* or new 4th weigh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20:24:13Z</dcterms:created>
  <dc:creator>Nvidia Corporation</dc:creator>
  <dc:description/>
  <dc:language>en-US</dc:language>
  <cp:lastModifiedBy>Staff</cp:lastModifiedBy>
  <cp:lastPrinted>1999-12-03T03:25:53Z</cp:lastPrinted>
  <dcterms:modified xsi:type="dcterms:W3CDTF">2000-10-24T23:55:02Z</dcterms:modified>
  <cp:revision>212</cp:revision>
  <dc:subject/>
  <dc:title>NV15 &amp; Vanta 2 GPU Update</dc:title>
</cp:coreProperties>
</file>